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26.png" ContentType="image/png"/>
  <Override PartName="/ppt/media/image17.jpeg" ContentType="image/jpeg"/>
  <Override PartName="/ppt/media/image14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913A-8C73-46D1-B1E4-1D69D283944C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F5E6-B735-48C5-A251-246269DF427E}" type="slidenum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32AC-C4E1-4BAF-9408-7054B9389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550F-6F69-45E5-9D71-87375959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6D64-33CC-4B31-A1F1-22AA3FCAD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1A15-B154-415E-ACFF-12FB50FB7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18C9-AB8C-4A2F-8DE5-830644ECF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31D8D-848D-4B07-AC84-66CC5146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33D3-3750-4CC6-8116-6FB1D171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9502-1CC2-4948-9C95-143FE366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6E9EE-5D59-4DD5-B28F-FAF6E717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C85A-3ACB-4C98-9CDA-AADE8488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64E8-48CF-450B-B4B1-C869D1EF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8FEF-4EE0-4280-98EE-85AD2758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3F2B-D1B8-45EF-ABA5-542AF89B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119B-0B94-4D36-A53B-4BD9D302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485D5-03A2-4FF7-93CD-65D94E4E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266FB-0C1A-4F43-A39C-DBF206EC1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5E294-4983-46C1-B73C-C333FC05B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FEAE-A452-4446-B170-4FF93BF9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1EB3-047C-4D27-AB47-2DCA7B00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0588-6A88-42BB-8AA0-54F7120C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A100-B8F4-41BC-A97B-6EC37AC4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F40E-4BB4-4FC9-878E-99405E80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8707-DE1A-4EA7-B38C-899302B5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D669-47BA-4179-8D08-161FBE81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bcbc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8EAB-7BDA-47FB-8E1E-A9C3584763E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39393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39393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bcbc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9DEE-4DD3-4049-B8E1-646C71AF7F2F}" type="slidenum">
              <a:rPr b="0" lang="en-CA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istory of Atomic Mode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3276720" y="3645000"/>
            <a:ext cx="309564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15" descr="Image result for atomic model"/>
          <p:cNvPicPr/>
          <p:nvPr/>
        </p:nvPicPr>
        <p:blipFill>
          <a:blip r:embed="rId1"/>
          <a:stretch/>
        </p:blipFill>
        <p:spPr>
          <a:xfrm>
            <a:off x="2987640" y="2637000"/>
            <a:ext cx="2571840" cy="2885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7" descr="Image result for atomic model"/>
          <p:cNvPicPr/>
          <p:nvPr/>
        </p:nvPicPr>
        <p:blipFill>
          <a:blip r:embed="rId2"/>
          <a:stretch/>
        </p:blipFill>
        <p:spPr>
          <a:xfrm>
            <a:off x="324000" y="29368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3" descr="Image result for atomic model schrodinger"/>
          <p:cNvPicPr/>
          <p:nvPr/>
        </p:nvPicPr>
        <p:blipFill>
          <a:blip r:embed="rId3"/>
          <a:stretch/>
        </p:blipFill>
        <p:spPr>
          <a:xfrm>
            <a:off x="6084720" y="2911320"/>
            <a:ext cx="259092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:\My Documents\School\sc9\thomson model.gif"/>
          <p:cNvPicPr/>
          <p:nvPr/>
        </p:nvPicPr>
        <p:blipFill>
          <a:blip r:embed="rId1"/>
          <a:stretch/>
        </p:blipFill>
        <p:spPr>
          <a:xfrm>
            <a:off x="0" y="587520"/>
            <a:ext cx="9144000" cy="62704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1752480" y="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lum-Pudding Mod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0" y="6400800"/>
            <a:ext cx="472428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rnest Rutherfor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3" descr="C:\My Documents\School\sc9\rutherford.jpg"/>
          <p:cNvPicPr/>
          <p:nvPr/>
        </p:nvPicPr>
        <p:blipFill>
          <a:blip r:embed="rId1"/>
          <a:stretch/>
        </p:blipFill>
        <p:spPr>
          <a:xfrm>
            <a:off x="2789280" y="1847880"/>
            <a:ext cx="366228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utherford Gold Foil (Geiger Muller) Experi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rnest Rutherford proposed shooting alpha particles at extremely thin gold fo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went right through with little deflection, but some bounced bac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result was thought to be like cannon balls bouncing off tissue paper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https://upload.wikimedia.org/wikipedia/commons/thumb/f/f9/Geiger-Marsden_experiment_expectation_and_result.svg/1024px-Geiger-Marsden_experiment_expectation_and_result.svg.png"/>
          <p:cNvPicPr/>
          <p:nvPr/>
        </p:nvPicPr>
        <p:blipFill>
          <a:blip r:embed="rId1"/>
          <a:stretch/>
        </p:blipFill>
        <p:spPr>
          <a:xfrm>
            <a:off x="1193760" y="692280"/>
            <a:ext cx="6253200" cy="58323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1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pha particles should be undeflected but observed to bounce b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utherford Atomic Mod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alpha particles must have bounced off an area of the atom that is positively charged and extremely dens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utherford concluded that the atom has a dense positive nucleus with electrons orbiting aroun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utherford Model of the Atom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8" descr="Image result for rutherford model"/>
          <p:cNvPicPr/>
          <p:nvPr/>
        </p:nvPicPr>
        <p:blipFill>
          <a:blip r:embed="rId1"/>
          <a:stretch/>
        </p:blipFill>
        <p:spPr>
          <a:xfrm>
            <a:off x="539640" y="1197000"/>
            <a:ext cx="762012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iels Boh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3" descr="C:\My Documents\School\sc9\bohr.jpg"/>
          <p:cNvPicPr/>
          <p:nvPr/>
        </p:nvPicPr>
        <p:blipFill>
          <a:blip r:embed="rId1"/>
          <a:stretch/>
        </p:blipFill>
        <p:spPr>
          <a:xfrm>
            <a:off x="4114800" y="765000"/>
            <a:ext cx="4013280" cy="53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ohr Model 191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ght (electromagnetic radiation) is emitted from matter at particular energies, or quanta (from Planck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ght is produced when electrons move from high energy states to low energy states. E=hf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lectrons exist in particular orbit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https://upload.wikimedia.org/wikipedia/commons/thumb/a/a5/Bohr_atom_model_English.svg/420px-Bohr_atom_model_English.svg.png"/>
          <p:cNvPicPr/>
          <p:nvPr/>
        </p:nvPicPr>
        <p:blipFill>
          <a:blip r:embed="rId1"/>
          <a:stretch/>
        </p:blipFill>
        <p:spPr>
          <a:xfrm>
            <a:off x="1403280" y="115920"/>
            <a:ext cx="590544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dern Atomic Mod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antum Mechanics shows how there is a limit to our ability to determine the motion and position of partic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otion of objects is described using a wave equation, </a:t>
            </a:r>
            <a:r>
              <a:rPr b="0" lang="en-CA" sz="2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where </a:t>
            </a:r>
            <a:r>
              <a:rPr b="0" lang="en-CA" sz="2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CA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the probability distribution of the object.  Graphing </a:t>
            </a:r>
            <a:r>
              <a:rPr b="0" lang="en-CA" sz="2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CA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an electron around the hydrogen atom we obtain orbital shap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Related image"/>
          <p:cNvPicPr/>
          <p:nvPr/>
        </p:nvPicPr>
        <p:blipFill>
          <a:blip r:embed="rId1"/>
          <a:stretch/>
        </p:blipFill>
        <p:spPr>
          <a:xfrm>
            <a:off x="-12600" y="176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Image result for kanada atomic theory"/>
          <p:cNvPicPr/>
          <p:nvPr/>
        </p:nvPicPr>
        <p:blipFill>
          <a:blip r:embed="rId2"/>
          <a:stretch/>
        </p:blipFill>
        <p:spPr>
          <a:xfrm>
            <a:off x="4356000" y="2492280"/>
            <a:ext cx="191952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Image result for orbitals s p d f"/>
          <p:cNvPicPr/>
          <p:nvPr/>
        </p:nvPicPr>
        <p:blipFill>
          <a:blip r:embed="rId1"/>
          <a:stretch/>
        </p:blipFill>
        <p:spPr>
          <a:xfrm>
            <a:off x="-1440" y="0"/>
            <a:ext cx="929484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9" descr="Image result for atomic model schrodinger"/>
          <p:cNvPicPr/>
          <p:nvPr/>
        </p:nvPicPr>
        <p:blipFill>
          <a:blip r:embed="rId1"/>
          <a:stretch/>
        </p:blipFill>
        <p:spPr>
          <a:xfrm>
            <a:off x="1619280" y="944640"/>
            <a:ext cx="626580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dwick 1931 discovered that the nucleus contains protons and neutr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ons and neutrons are composed of quarks (1964 Gell-Mann and Zweig)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trong force between the quarks is what holds the nucleus together and produces massive amounts of energy in a nuclear reaction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side the Nucleu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mework P584 Q 1.1-1.4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5" descr="Image result for atomic model schrodinger"/>
          <p:cNvPicPr/>
          <p:nvPr/>
        </p:nvPicPr>
        <p:blipFill>
          <a:blip r:embed="rId1"/>
          <a:stretch/>
        </p:blipFill>
        <p:spPr>
          <a:xfrm>
            <a:off x="324000" y="1760400"/>
            <a:ext cx="825660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2" descr="Related image"/>
          <p:cNvPicPr/>
          <p:nvPr/>
        </p:nvPicPr>
        <p:blipFill>
          <a:blip r:embed="rId1"/>
          <a:stretch/>
        </p:blipFill>
        <p:spPr>
          <a:xfrm>
            <a:off x="4473720" y="765000"/>
            <a:ext cx="4373280" cy="4114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Related image"/>
          <p:cNvPicPr/>
          <p:nvPr/>
        </p:nvPicPr>
        <p:blipFill>
          <a:blip r:embed="rId2"/>
          <a:stretch/>
        </p:blipFill>
        <p:spPr>
          <a:xfrm>
            <a:off x="20520" y="765000"/>
            <a:ext cx="4238640" cy="44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9760" y="254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4" descr="Image result for history of atom"/>
          <p:cNvPicPr/>
          <p:nvPr/>
        </p:nvPicPr>
        <p:blipFill>
          <a:blip r:embed="rId1"/>
          <a:stretch/>
        </p:blipFill>
        <p:spPr>
          <a:xfrm>
            <a:off x="179280" y="-100080"/>
            <a:ext cx="6077160" cy="45626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2" descr="Image result for history of atom"/>
          <p:cNvPicPr/>
          <p:nvPr/>
        </p:nvPicPr>
        <p:blipFill>
          <a:blip r:embed="rId1"/>
          <a:stretch/>
        </p:blipFill>
        <p:spPr>
          <a:xfrm>
            <a:off x="2013120" y="1981080"/>
            <a:ext cx="5117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2" descr="Image result for history of atom"/>
          <p:cNvPicPr/>
          <p:nvPr/>
        </p:nvPicPr>
        <p:blipFill>
          <a:blip r:embed="rId1"/>
          <a:stretch/>
        </p:blipFill>
        <p:spPr>
          <a:xfrm>
            <a:off x="41400" y="307800"/>
            <a:ext cx="9102600" cy="64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08600" y="898200"/>
            <a:ext cx="4486320" cy="226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Democritus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(460-360 BC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7" descr="Related image"/>
          <p:cNvPicPr/>
          <p:nvPr/>
        </p:nvPicPr>
        <p:blipFill>
          <a:blip r:embed="rId1"/>
          <a:stretch/>
        </p:blipFill>
        <p:spPr>
          <a:xfrm>
            <a:off x="108000" y="115920"/>
            <a:ext cx="48006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Democritu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ll things are composed of minute, invisible and indivisible particles, atoma, (indivisibles) in constant motion through otherwise empty space, kenon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ristot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28240" y="1988640"/>
            <a:ext cx="51354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gued against atomic theory and believed everything was composed of the 5 elem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ly influential for 2000 yea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Image result for aristotle"/>
          <p:cNvPicPr/>
          <p:nvPr/>
        </p:nvPicPr>
        <p:blipFill>
          <a:blip r:embed="rId1"/>
          <a:stretch/>
        </p:blipFill>
        <p:spPr>
          <a:xfrm>
            <a:off x="5148360" y="374760"/>
            <a:ext cx="35719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alton 1800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8000" y="1981080"/>
            <a:ext cx="431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emicals are composed of elements combined together in certain propor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lliard bal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el of ato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7" descr="Image result for john dalton billiard ball model"/>
          <p:cNvPicPr/>
          <p:nvPr/>
        </p:nvPicPr>
        <p:blipFill>
          <a:blip r:embed="rId1"/>
          <a:stretch/>
        </p:blipFill>
        <p:spPr>
          <a:xfrm>
            <a:off x="4896000" y="6480"/>
            <a:ext cx="4032000" cy="4032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Image result for john dalton billiard ball model"/>
          <p:cNvPicPr/>
          <p:nvPr/>
        </p:nvPicPr>
        <p:blipFill>
          <a:blip r:embed="rId2"/>
          <a:stretch/>
        </p:blipFill>
        <p:spPr>
          <a:xfrm>
            <a:off x="3995640" y="4181400"/>
            <a:ext cx="352908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Content Placeholder 5" descr="Image result for dalton atomic model"/>
          <p:cNvPicPr/>
          <p:nvPr/>
        </p:nvPicPr>
        <p:blipFill>
          <a:blip r:embed="rId1"/>
          <a:stretch/>
        </p:blipFill>
        <p:spPr>
          <a:xfrm>
            <a:off x="108000" y="1571760"/>
            <a:ext cx="876132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ir Joseph John Thomson 19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alyzed the nature of cathode ray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noticed that they had particle like properties and were identical regardless of the material producing the ray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6" descr="Image result for jj thomson"/>
          <p:cNvPicPr/>
          <p:nvPr/>
        </p:nvPicPr>
        <p:blipFill>
          <a:blip r:embed="rId1"/>
          <a:stretch/>
        </p:blipFill>
        <p:spPr>
          <a:xfrm>
            <a:off x="5076720" y="1125360"/>
            <a:ext cx="3434040" cy="53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lum-Pudding Mod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rd Kelvin and JJ Thomson concluded that the atom was composed of tiny negatively charged electrons and positive charge mixed together. This was called the Plum-Pudding Model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1T20:47:02Z</dcterms:created>
  <dc:creator>Sir Winston Churchill Secondary</dc:creator>
  <dc:description/>
  <dc:language>en-US</dc:language>
  <cp:lastModifiedBy>Adam Mathew Klaassen</cp:lastModifiedBy>
  <dcterms:modified xsi:type="dcterms:W3CDTF">2017-02-15T22:35:54Z</dcterms:modified>
  <cp:revision>48</cp:revision>
  <dc:subject/>
  <dc:title>Sir Joseph John Thompson</dc:title>
</cp:coreProperties>
</file>